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4C6-9830-4553-BB55-1DE80A83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9E9-35FD-4ED1-8264-23B9B40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8A7-EA8D-4AF3-AC12-2770C39B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F5F-1CC9-4837-AB68-ED4A8261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ACF-F989-49D5-9EEC-448B8289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1F5-4CA4-429C-8354-FC2B05A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F91-916D-474C-9BAC-5ED9033A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90F-8997-49F0-90AA-DA5AC9C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6BE-5081-4133-B488-D7A145FE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8F5-86DB-48BE-B63A-404EB0E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86A-540E-47EB-A8ED-ED2B5CC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A46-6BFC-42F6-B4B1-E16288BD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6481F-137F-47C4-A5E1-52AF8495E5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ges work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94312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yli ,Ayerim,Cameron, and Lizzy went to the  zoo their was 15 ligers they got sent to 5 different zoos how many does each zoo get 15                5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54864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66294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54864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0991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501804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8006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54864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3:53:59Z</dcterms:created>
  <dc:creator/>
  <dc:description/>
  <dc:language>en-US</dc:language>
  <cp:lastModifiedBy/>
  <cp:revision>1</cp:revision>
  <dc:subject/>
  <dc:title/>
</cp:coreProperties>
</file>